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2B3B7-5B60-498C-9171-B51E6CB4B5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221BD-A804-48DB-8EB9-EB7D531B1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2B818-87C6-4751-B598-055B5695C3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45281-070E-4DCC-B80D-4F53E1352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8CB07-694A-4644-A652-4AD370713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08005-187B-4548-AB60-599F5591E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2C7ED-7CAF-45F4-984C-301BDA78F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8655B-5BC0-473D-8714-481102992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C2CCB-751A-46D2-8640-76421FEFD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CEC56-DA4A-426D-B668-009DD2DEA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FD997-91A0-464E-A674-4924B876C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86A0F-63EE-4691-ABFD-5A0D2EBB72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301A8-ECA8-4C94-A2D5-DA8E4560E23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EGE ÜNİVERSİTESİ</a:t>
            </a:r>
            <a:endParaRPr b="0" lang="en-US" sz="60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425592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07:37:05Z</dcterms:created>
  <dc:creator>Microsoft Office User</dc:creator>
  <dc:description/>
  <dc:language>en-US</dc:language>
  <cp:lastModifiedBy>Microsoft Office User</cp:lastModifiedBy>
  <dcterms:modified xsi:type="dcterms:W3CDTF">2018-08-01T13:24:51Z</dcterms:modified>
  <cp:revision>3</cp:revision>
  <dc:subject/>
  <dc:title>PowerPoint Presentation</dc:title>
</cp:coreProperties>
</file>